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5D0C-F15A-4C69-A744-E2C41372EC5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unknown variables</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2908-42FC-4C5A-8B5F-C731D964A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paper( Building a scalable OWL reaso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er : 2 solutions : If possible use existing standard off the shelf reasoner/ use Jena to write custom rules that implement current reasoning capabilities i.e. 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D6B4-C3E6-4D3C-8B55-E9D6FD578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talk I would cover the following points about RDF Triple stores. The different architectures of triple stores, what are the implications of those different architectures. A Jena SDB example. Evaluations performed on the different triple stores using the Lehigh University benchmark and DB pedia data. Briefly go over the open research issues in triple stores and discuss which RDF store to choose. I will conclude with a probable architecture for Phenotype annotations.</a:t>
            </a: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39CB-D659-4E45-8A3D-81CC29DF62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uitively, as the name  suggests it is a system to provide a mechanism for persistent storage of an RDF Graph.</a:t>
            </a: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7271-3BCB-44F5-8177-6AF78D3BD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DF stores can be divided into 3 broad categories based upon how they are implemented. These are not precisely defined terms with rigid boundaries but something that can serve as rough guide to what a triple stor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tores: Provide support for transactions, own SQL compiler and generally their own procedure 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explain in detail what I mean by this term in the later slides.</a:t>
            </a: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FE7B-6DED-419A-96DD-4F485FACB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libility : In-memory stores come no way near in matching the storage capacity of a Persistent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same – Doesn’t support SPARQL completely. ~ 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erencing – An in-memory store supports highest degree of reasoning. Any reasoner like Pellet, Jena Reasoner can be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particular store kindof commits you to using the entire stack of a store – query language, API. You can make Jena talk to Sesame for accessing each other native stores or there are Jena and Sesame Java APIs available for Oracle 11g – but there stability and functionality are not certain.  </a:t>
            </a: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DAFA-14B9-4C7A-A416-85E7E8834B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a SDB alone is not a triple store. But when used in conjunction with a traditional DB like MySQL it combines to become a triple store. In most ways it configures a traditional DB to store an RDF graph effeciently.  </a:t>
            </a:r>
            <a:br>
              <a:rPr sz="1200"/>
            </a:br>
            <a:r>
              <a:rPr b="0" lang="en-US" sz="1200" spc="-1" strike="noStrike">
                <a:solidFill>
                  <a:srgbClr val="000000"/>
                </a:solidFill>
                <a:latin typeface="Calibri"/>
              </a:rPr>
              <a:t>1. SDB store requires a store object that has two parts: connection to the database and description of the store configu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Store configuration decides which RDF data is stored in the DB.  Simple Triples(Layout Hash) : S,P,O – primary key: SPO. Indexes PO and OS. Layout Index – Primarily for the named graph: G,S,P,O. Primary key: GSPO. Indexes: </a:t>
            </a:r>
            <a:r>
              <a:rPr b="0" lang="pt-BR" sz="1200" spc="-1" strike="noStrike">
                <a:solidFill>
                  <a:srgbClr val="000000"/>
                </a:solidFill>
                <a:latin typeface="Calibri"/>
              </a:rPr>
              <a:t>GPO, GOS, SPO, OS, PO.</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Joseki is an HTTP engine that supports RDF databases and HTTP implementation of SPARQL queries. </a:t>
            </a: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7E28-1C5D-4D95-B6D6-789DBFD9A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ed getting evaluation figures for Mulgara but it didn’t support SPARQ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bpedia : Database of structured information extracted from Wikipedia. Information about places, persons, music albums and films.</a:t>
            </a: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219B-4E83-4643-B315-2306FDC90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evaluations were performed for 5 queries</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4BD3-9875-4675-BEAB-F72B32658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4CA74-54F4-4FB0-B171-92FC48BCA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43DB0-7872-4299-8D2D-B31DCB003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B5CF6-2A2F-4CB3-BBC0-1AA8EDCFC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47AE9-EA33-4859-B010-35C4E5F26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699C2-7E9E-4134-855D-D83AF6144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439C5-538B-46D6-BB7F-78025795D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3F23F-9BE6-47B7-915A-44008486C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6FFE2-B3E7-4B26-B718-3C030D8C1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AAAD7-64E3-43E5-B158-72FA255B2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CA4BC-7F33-41F1-A859-D18BFF02A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048F7-A0B6-4B02-9246-AF1181B4E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CEDC0-CAED-4905-932E-959BC5237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667B4-E7F5-4E11-80E6-1FDE79C35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8FE7C-2813-455A-B180-067DDD44A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952E1-EE20-4976-AE90-D85207C5B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E7DB0-4CFA-4EC4-AD7F-6A5511C25E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FB241-B92F-479D-A4F7-179C76F38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D4B9C4-29AA-4E5D-B70C-B6A2094C7D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953752-B17D-40AE-AE93-7C894292A1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48E8F1-E6CD-4D8C-9B6C-B3A87219B4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20F269-4891-4F7F-A5FB-AE6B6A932C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DE88AD-935F-4BE6-B232-8DEC49DDF2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377CB-0E5E-421E-AC46-E4376B403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33FD6C-E200-4D2B-9A1F-D5E7D39B4D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0F4D5F-6DC8-48D8-8980-EDFB715CB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729F3-A2FA-426C-8E24-E94BD7567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1E3F9B-108E-45C8-B3D4-A2C705B1CB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4C031A-078E-4F17-8FCA-70CDECFDEF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010967-BB53-43A7-91FA-AD44CBE731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DFB2C2-F415-4375-B4C9-EC5D6B574A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0099CE-539F-46EE-A387-61AEBD2101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A220E4-98E5-474E-B545-B293794679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7A4606-72C5-4629-A9E3-84A1FAC068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A7E42-BF17-4979-8417-7F767FA37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8B55BC-CCF8-4227-B7F5-B291601ACD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D9AB79-D606-4200-9D6D-48CAFF9274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BF39A8-5E8C-46A4-A1ED-89AC672F7C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B10FC6-D3BE-44D6-960D-86EE36D7DB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AD773-4E56-4D79-864E-C44F8AC64B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BF9EA1-4C79-4375-B86C-8957E83BD5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9EEA01-0E86-4310-BFDB-C81009265A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AF8714-EF9A-4EDE-9F33-2C5106137B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73CD32-CCAC-4661-843D-06B1150917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FC21D9-D99B-4A70-84DC-A34770485C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4C545-3342-4006-A161-53E178DCF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9F483F-D7E1-4973-B71F-57CE3AC5DB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1DD75E-7F0B-40E9-909C-793BAEA9BD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286263-5CF5-4C74-817C-28CBE32DAE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B74EA3-A7F2-4518-95D3-EE76D9998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B3A1A0-8466-4B95-A1AD-AD609322BD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940283-DA90-4C77-BE86-6915D68489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3572FC-0744-428B-941A-CBAB2AE0F3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FD800D-6695-48E1-94E9-677501DE43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6B0CB1-6ABC-4AC3-9BA5-03E2C2B383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E4B74C-6B5A-4CDE-BDA1-181BB2DE7D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40AF9-F72F-41E9-A186-1359D23A8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70B1E7-85D5-4E19-B9D8-9109C95996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5694D2-CB42-4DD8-BE17-AAC655A0FC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890F21-C93B-4735-939A-F73EA7C2B0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8E3BC4-2C54-4562-A80B-124AFA256E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2E7E23-B657-4EC9-BA1C-23BBB7A902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8484DA-C24F-4BB8-9E16-33B31B832D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C17EB6-A821-4C05-A9B7-39B6A6452E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4FF9F2-D879-483A-9B4D-BE7825871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AC8BF-0036-4F11-BBC7-9E2E71D7DF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A3B72F-AC29-4B23-BCE8-19EBF58C8B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DA07C-45CC-4112-8F82-34A8732DE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E4E8CE-7BE3-4449-8665-DEF6BF50CF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97024F-D3BF-4EBC-9855-7735F765F7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570209-758E-4B45-8271-4B2183E415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FBA8C1-4C24-4FE2-911C-1C34CA8856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8A59E2-571D-4746-9DB5-C1529BDC63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AD2189-7FF1-450D-AB1E-852B1A75ED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7E1A92-9AAB-44D4-BFF4-70D5BF23AE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005F2B-B586-42ED-981B-1989469D06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1771CB-0BD0-46F5-8802-98B8C006B6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E89BE1-EF07-49AB-91BB-68970F5C68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F7EB5-6636-48CD-82D8-1F57A067C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396CB6-DD1B-47A8-BF24-D5545C1D80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3EE41-F5F8-4281-B180-4B9919AFC9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13CE41-935E-4616-B0C6-4FAB853EE7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5887BF-07B0-4603-AC4F-BDC99996DB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82A9D9-D569-4BC0-90E6-ADD636D8DB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08F85B-EC25-4EB9-BAE6-82FA361A10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FEB8BB-5B35-4D57-BEC3-F99D36B2BB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9ABC85-0D67-46D3-9EBF-A1E35BE5B3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B00574-14AD-4244-B495-3F1D6EECA4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3478E4-91F5-4A87-AE0E-15D19129B9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A50B5-0505-4F25-B542-871EED00F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48A63D-469D-41E0-A9AE-D993010F55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86D187-38EC-4421-8281-8BCA72B596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4F1A2E-08D2-4B62-AF29-8C6A663166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231DC0-8DBD-490D-873E-1D3E489C0A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D9534C-A3B8-4B42-AD7F-859EA1599C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D4E3E8-57BD-4D28-B897-CBB4956D38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547CC3-4EC8-44BF-A443-EADD192A984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7EC9-D707-401F-B0AC-16BD1238D17D}"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41FC9-6323-4F4F-8D71-7ACEEEC26AF6}"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FA59-30AB-42E1-BD5D-8C135895FD81}"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3A99-8FA4-432B-A6E6-393B94934F76}"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0A2F-46FB-42E3-A2F7-43F12EA2063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3746-8F64-4795-8CE2-4F3A4A308BC1}"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8FCF-B0BD-4153-90EB-17306FF83166}"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19697-9DEB-425F-BD56-1EAF7D48D05F}"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RDF Triple Stores</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Nipun Bhatia</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Department of Computer Science. Stanford University</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ults – Query 1</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mple select query – 2 variable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0" name="Picture 3" descr="query1.gif"/>
          <p:cNvPicPr/>
          <p:nvPr/>
        </p:nvPicPr>
        <p:blipFill>
          <a:blip r:embed="rId1"/>
          <a:stretch/>
        </p:blipFill>
        <p:spPr>
          <a:xfrm>
            <a:off x="642960" y="1828800"/>
            <a:ext cx="785808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ry 2</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nconstrained Select Query – only predicate was specifi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3" name="Picture 3" descr="query2.gif"/>
          <p:cNvPicPr/>
          <p:nvPr/>
        </p:nvPicPr>
        <p:blipFill>
          <a:blip r:embed="rId1"/>
          <a:stretch/>
        </p:blipFill>
        <p:spPr>
          <a:xfrm>
            <a:off x="619200" y="2104920"/>
            <a:ext cx="7905600" cy="37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ry 3</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mplex Query – Uses filt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p:txBody>
      </p:sp>
      <p:pic>
        <p:nvPicPr>
          <p:cNvPr id="386" name="Picture 3" descr="query3.gif"/>
          <p:cNvPicPr/>
          <p:nvPr/>
        </p:nvPicPr>
        <p:blipFill>
          <a:blip r:embed="rId1"/>
          <a:stretch/>
        </p:blipFill>
        <p:spPr>
          <a:xfrm>
            <a:off x="581040" y="2104920"/>
            <a:ext cx="7981920" cy="36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racle 11g – DataSet 2</a:t>
            </a:r>
            <a:endParaRPr b="0" lang="en-US" sz="3200" spc="-1" strike="noStrike">
              <a:solidFill>
                <a:srgbClr val="464653"/>
              </a:solidFill>
              <a:latin typeface="Bookman Old Style"/>
            </a:endParaRPr>
          </a:p>
        </p:txBody>
      </p:sp>
      <p:graphicFrame>
        <p:nvGraphicFramePr>
          <p:cNvPr id="388" name=""/>
          <p:cNvGraphicFramePr/>
          <p:nvPr/>
        </p:nvGraphicFramePr>
        <p:xfrm>
          <a:off x="457200" y="1219320"/>
          <a:ext cx="8229600" cy="2971800"/>
        </p:xfrm>
        <a:graphic>
          <a:graphicData uri="http://schemas.openxmlformats.org/drawingml/2006/table">
            <a:tbl>
              <a:tblPr/>
              <a:tblGrid>
                <a:gridCol w="2743200"/>
                <a:gridCol w="1371600"/>
                <a:gridCol w="1371600"/>
                <a:gridCol w="1371600"/>
                <a:gridCol w="1371600"/>
              </a:tblGrid>
              <a:tr h="4658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ntology (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9fb8cd"/>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RDF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b8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WL Pr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b8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ples</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r>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UBM – 50(6.8 Mill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75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14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05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01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r>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UBM – 1000(133.6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5.09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h 19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65.25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h 12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bservations</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ative Stores perform better than systems using third party stores.</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Optimizations are possibl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ach of the systems uses different database layouts. </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Virtuoso – OGPS,POGS,PSOG,SOPG</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DB – SPO,GSPO</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ashing on SDB is very bad. </a:t>
            </a:r>
            <a:endParaRPr b="0" lang="en-US" sz="2600" spc="-1" strike="noStrike">
              <a:solidFill>
                <a:srgbClr val="000000"/>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Research Issues</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ferencing[4]</a:t>
            </a:r>
            <a:endParaRPr b="0" lang="en-US" sz="26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53"/>
                </a:solidFill>
                <a:latin typeface="Times New Roman"/>
                <a:ea typeface="Times New Roman"/>
              </a:rPr>
              <a:t>Present common implementations</a:t>
            </a:r>
            <a:r>
              <a:rPr b="0" lang="en-US" sz="2300" spc="-1" strike="noStrike">
                <a:solidFill>
                  <a:srgbClr val="464653"/>
                </a:solidFill>
                <a:latin typeface="Times New Roman"/>
                <a:ea typeface="Times New Roman"/>
              </a:rPr>
              <a:t>:</a:t>
            </a:r>
            <a:endParaRPr b="0" lang="en-US" sz="2300" spc="-1" strike="noStrike">
              <a:solidFill>
                <a:srgbClr val="464653"/>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ke a number of small queries to propagate the effects of rule firing.</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ch of these queries creates an interaction with the database.</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 very efficient </a:t>
            </a:r>
            <a:endParaRPr b="0" lang="en-US" sz="20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pproaches</a:t>
            </a:r>
            <a:endParaRPr b="0" lang="en-US" sz="2300" spc="-1" strike="noStrike">
              <a:solidFill>
                <a:srgbClr val="464653"/>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napshot the contents of the database-backed model into RAM for the duration of processing by the inference engine.</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forming inferencing in-stream.</a:t>
            </a:r>
            <a:endParaRPr b="0" lang="en-US" sz="20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compute the inference closure of ontology and analyze the in-coming data-streams, add triples to it based on your inference closure.</a:t>
            </a:r>
            <a:endParaRPr b="0" lang="en-US" sz="18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sumes rigid seperation of the RDF Data(A-box) and the Ontology data(T-box)</a:t>
            </a:r>
            <a:endParaRPr b="0" lang="en-US" sz="18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 this maynot work for very large ontologies – BioMedical Ontologies</a:t>
            </a:r>
            <a:endParaRPr b="0" lang="en-US" sz="18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Research Issues</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Query Optimization</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ird party stores undo’s any optimization done at the API level.</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etter performance of native stores points to that direction.</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ome work in optimizing SPARQL queries for in-memory story.</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hich RDF store to choose for an app?</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requency of loads that the application would perform.</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ngle scaling factor and linear load time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evel of inferenci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upport for which query language. W3C recommendation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ecial system needs. Eg. Allegograph needs 64 bit processo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henotype Annotations</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9" name="Rectangle 3"/>
          <p:cNvSpPr/>
          <p:nvPr/>
        </p:nvSpPr>
        <p:spPr>
          <a:xfrm>
            <a:off x="457200" y="3200400"/>
            <a:ext cx="2209680" cy="7621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et of Ontologies required for Phenotype Annotationseg. PATO, Fly etc.</a:t>
            </a:r>
            <a:endParaRPr b="0" lang="en-US" sz="1100" spc="-1" strike="noStrike">
              <a:solidFill>
                <a:srgbClr val="000000"/>
              </a:solidFill>
              <a:latin typeface="Arial"/>
            </a:endParaRPr>
          </a:p>
        </p:txBody>
      </p:sp>
      <p:sp>
        <p:nvSpPr>
          <p:cNvPr id="400" name="Rectangle 12"/>
          <p:cNvSpPr/>
          <p:nvPr/>
        </p:nvSpPr>
        <p:spPr>
          <a:xfrm>
            <a:off x="4267080" y="2209680"/>
            <a:ext cx="251460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j</a:t>
            </a:r>
            <a:endParaRPr b="0" lang="en-US" sz="1800" spc="-1" strike="noStrike">
              <a:solidFill>
                <a:srgbClr val="000000"/>
              </a:solidFill>
              <a:latin typeface="Arial"/>
            </a:endParaRPr>
          </a:p>
        </p:txBody>
      </p:sp>
      <p:sp>
        <p:nvSpPr>
          <p:cNvPr id="401" name="Rectangle 13"/>
          <p:cNvSpPr/>
          <p:nvPr/>
        </p:nvSpPr>
        <p:spPr>
          <a:xfrm>
            <a:off x="4343400" y="236232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Jena Model</a:t>
            </a:r>
            <a:endParaRPr b="0" lang="en-US" sz="1100" spc="-1" strike="noStrike">
              <a:solidFill>
                <a:srgbClr val="000000"/>
              </a:solidFill>
              <a:latin typeface="Arial"/>
            </a:endParaRPr>
          </a:p>
        </p:txBody>
      </p:sp>
      <p:sp>
        <p:nvSpPr>
          <p:cNvPr id="402" name="Rectangle 14"/>
          <p:cNvSpPr/>
          <p:nvPr/>
        </p:nvSpPr>
        <p:spPr>
          <a:xfrm>
            <a:off x="5791320" y="236232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DB</a:t>
            </a:r>
            <a:endParaRPr b="0" lang="en-US" sz="1100" spc="-1" strike="noStrike">
              <a:solidFill>
                <a:srgbClr val="000000"/>
              </a:solidFill>
              <a:latin typeface="Arial"/>
            </a:endParaRPr>
          </a:p>
        </p:txBody>
      </p:sp>
      <p:cxnSp>
        <p:nvCxnSpPr>
          <p:cNvPr id="403" name="Straight Arrow Connector 16"/>
          <p:cNvCxnSpPr/>
          <p:nvPr/>
        </p:nvCxnSpPr>
        <p:spPr>
          <a:xfrm>
            <a:off x="5257800" y="2590920"/>
            <a:ext cx="534240" cy="2160"/>
          </a:xfrm>
          <a:prstGeom prst="straightConnector1">
            <a:avLst/>
          </a:prstGeom>
          <a:ln w="9360">
            <a:solidFill>
              <a:srgbClr val="727ca3"/>
            </a:solidFill>
            <a:miter/>
            <a:headEnd len="med" type="arrow" w="med"/>
            <a:tailEnd len="med" type="arrow" w="med"/>
          </a:ln>
        </p:spPr>
      </p:cxnSp>
      <p:sp>
        <p:nvSpPr>
          <p:cNvPr id="404" name="Rectangle 18"/>
          <p:cNvSpPr/>
          <p:nvPr/>
        </p:nvSpPr>
        <p:spPr>
          <a:xfrm>
            <a:off x="7391520" y="3352680"/>
            <a:ext cx="914400" cy="12193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MySQ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Virtuoso</a:t>
            </a:r>
            <a:endParaRPr b="0" lang="en-US" sz="1100" spc="-1" strike="noStrike">
              <a:solidFill>
                <a:srgbClr val="000000"/>
              </a:solidFill>
              <a:latin typeface="Arial"/>
            </a:endParaRPr>
          </a:p>
        </p:txBody>
      </p:sp>
      <p:cxnSp>
        <p:nvCxnSpPr>
          <p:cNvPr id="405" name="Straight Arrow Connector 20"/>
          <p:cNvCxnSpPr>
            <a:endCxn id="404" idx="0"/>
          </p:cNvCxnSpPr>
          <p:nvPr/>
        </p:nvCxnSpPr>
        <p:spPr>
          <a:xfrm>
            <a:off x="6781680" y="2438280"/>
            <a:ext cx="1067760" cy="915120"/>
          </a:xfrm>
          <a:prstGeom prst="straightConnector1">
            <a:avLst/>
          </a:prstGeom>
          <a:ln w="9360">
            <a:solidFill>
              <a:srgbClr val="727ca3"/>
            </a:solidFill>
            <a:miter/>
            <a:headEnd len="med" type="arrow" w="med"/>
            <a:tailEnd len="med" type="arrow" w="med"/>
          </a:ln>
        </p:spPr>
      </p:cxnSp>
      <p:sp>
        <p:nvSpPr>
          <p:cNvPr id="406" name="Rectangle 22"/>
          <p:cNvSpPr/>
          <p:nvPr/>
        </p:nvSpPr>
        <p:spPr>
          <a:xfrm>
            <a:off x="457200" y="4267080"/>
            <a:ext cx="2209680" cy="533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Phenotype Annotations</a:t>
            </a:r>
            <a:endParaRPr b="0" lang="en-US" sz="1100" spc="-1" strike="noStrike">
              <a:solidFill>
                <a:srgbClr val="000000"/>
              </a:solidFill>
              <a:latin typeface="Arial"/>
            </a:endParaRPr>
          </a:p>
        </p:txBody>
      </p:sp>
      <p:cxnSp>
        <p:nvCxnSpPr>
          <p:cNvPr id="407" name="Straight Arrow Connector 24"/>
          <p:cNvCxnSpPr>
            <a:stCxn id="408" idx="3"/>
            <a:endCxn id="404" idx="2"/>
          </p:cNvCxnSpPr>
          <p:nvPr/>
        </p:nvCxnSpPr>
        <p:spPr>
          <a:xfrm flipV="1">
            <a:off x="5714640" y="4571280"/>
            <a:ext cx="2134440" cy="648360"/>
          </a:xfrm>
          <a:prstGeom prst="straightConnector1">
            <a:avLst/>
          </a:prstGeom>
          <a:ln w="9360">
            <a:solidFill>
              <a:srgbClr val="727ca3"/>
            </a:solidFill>
            <a:miter/>
            <a:headEnd len="med" type="arrow" w="med"/>
            <a:tailEnd len="med" type="arrow" w="med"/>
          </a:ln>
        </p:spPr>
      </p:cxnSp>
      <p:sp>
        <p:nvSpPr>
          <p:cNvPr id="409" name="TextBox 26"/>
          <p:cNvSpPr/>
          <p:nvPr/>
        </p:nvSpPr>
        <p:spPr>
          <a:xfrm>
            <a:off x="5257800" y="1905120"/>
            <a:ext cx="83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0" name="TextBox 27"/>
          <p:cNvSpPr/>
          <p:nvPr/>
        </p:nvSpPr>
        <p:spPr>
          <a:xfrm>
            <a:off x="6553080" y="495288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1" name="TextBox 28"/>
          <p:cNvSpPr/>
          <p:nvPr/>
        </p:nvSpPr>
        <p:spPr>
          <a:xfrm>
            <a:off x="7391520" y="2666880"/>
            <a:ext cx="83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cxnSp>
        <p:nvCxnSpPr>
          <p:cNvPr id="412" name="Straight Arrow Connector 30"/>
          <p:cNvCxnSpPr/>
          <p:nvPr/>
        </p:nvCxnSpPr>
        <p:spPr>
          <a:xfrm flipV="1">
            <a:off x="1447560" y="2590200"/>
            <a:ext cx="1067400" cy="610200"/>
          </a:xfrm>
          <a:prstGeom prst="straightConnector1">
            <a:avLst/>
          </a:prstGeom>
          <a:ln w="9360">
            <a:solidFill>
              <a:srgbClr val="727ca3"/>
            </a:solidFill>
            <a:miter/>
            <a:tailEnd len="med" type="arrow" w="med"/>
          </a:ln>
        </p:spPr>
      </p:cxnSp>
      <p:sp>
        <p:nvSpPr>
          <p:cNvPr id="413" name="Rectangle 34"/>
          <p:cNvSpPr/>
          <p:nvPr/>
        </p:nvSpPr>
        <p:spPr>
          <a:xfrm>
            <a:off x="2514600" y="2209680"/>
            <a:ext cx="106668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Inferencing </a:t>
            </a:r>
            <a:endParaRPr b="0" lang="en-US" sz="1100" spc="-1" strike="noStrike">
              <a:solidFill>
                <a:srgbClr val="000000"/>
              </a:solidFill>
              <a:latin typeface="Arial"/>
            </a:endParaRPr>
          </a:p>
        </p:txBody>
      </p:sp>
      <p:cxnSp>
        <p:nvCxnSpPr>
          <p:cNvPr id="414" name="Straight Arrow Connector 39"/>
          <p:cNvCxnSpPr>
            <a:stCxn id="413" idx="3"/>
            <a:endCxn id="400" idx="1"/>
          </p:cNvCxnSpPr>
          <p:nvPr/>
        </p:nvCxnSpPr>
        <p:spPr>
          <a:xfrm>
            <a:off x="3580920" y="2552760"/>
            <a:ext cx="686520" cy="2160"/>
          </a:xfrm>
          <a:prstGeom prst="straightConnector1">
            <a:avLst/>
          </a:prstGeom>
          <a:ln w="9360">
            <a:solidFill>
              <a:srgbClr val="727ca3"/>
            </a:solidFill>
            <a:miter/>
            <a:tailEnd len="med" type="arrow" w="med"/>
          </a:ln>
        </p:spPr>
      </p:cxnSp>
      <p:sp>
        <p:nvSpPr>
          <p:cNvPr id="415" name="TextBox 44"/>
          <p:cNvSpPr/>
          <p:nvPr/>
        </p:nvSpPr>
        <p:spPr>
          <a:xfrm>
            <a:off x="2666880" y="190512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08" name="Rectangle 45"/>
          <p:cNvSpPr/>
          <p:nvPr/>
        </p:nvSpPr>
        <p:spPr>
          <a:xfrm>
            <a:off x="3200400" y="4876920"/>
            <a:ext cx="251460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j</a:t>
            </a:r>
            <a:endParaRPr b="0" lang="en-US" sz="1800" spc="-1" strike="noStrike">
              <a:solidFill>
                <a:srgbClr val="000000"/>
              </a:solidFill>
              <a:latin typeface="Arial"/>
            </a:endParaRPr>
          </a:p>
        </p:txBody>
      </p:sp>
      <p:cxnSp>
        <p:nvCxnSpPr>
          <p:cNvPr id="416" name="Straight Arrow Connector 47"/>
          <p:cNvCxnSpPr/>
          <p:nvPr/>
        </p:nvCxnSpPr>
        <p:spPr>
          <a:xfrm>
            <a:off x="1523520" y="4800600"/>
            <a:ext cx="1677240" cy="457920"/>
          </a:xfrm>
          <a:prstGeom prst="straightConnector1">
            <a:avLst/>
          </a:prstGeom>
          <a:ln w="9360">
            <a:solidFill>
              <a:srgbClr val="727ca3"/>
            </a:solidFill>
            <a:miter/>
            <a:tailEnd len="med" type="arrow" w="med"/>
          </a:ln>
        </p:spPr>
      </p:cxnSp>
      <p:sp>
        <p:nvSpPr>
          <p:cNvPr id="417" name="TextBox 50"/>
          <p:cNvSpPr/>
          <p:nvPr/>
        </p:nvSpPr>
        <p:spPr>
          <a:xfrm>
            <a:off x="4038480" y="457200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8" name="Rectangle 52"/>
          <p:cNvSpPr/>
          <p:nvPr/>
        </p:nvSpPr>
        <p:spPr>
          <a:xfrm>
            <a:off x="3352680" y="502920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Jena Model</a:t>
            </a:r>
            <a:endParaRPr b="0" lang="en-US" sz="1100" spc="-1" strike="noStrike">
              <a:solidFill>
                <a:srgbClr val="000000"/>
              </a:solidFill>
              <a:latin typeface="Arial"/>
            </a:endParaRPr>
          </a:p>
        </p:txBody>
      </p:sp>
      <p:sp>
        <p:nvSpPr>
          <p:cNvPr id="419" name="Rectangle 53"/>
          <p:cNvSpPr/>
          <p:nvPr/>
        </p:nvSpPr>
        <p:spPr>
          <a:xfrm>
            <a:off x="4800600" y="5029200"/>
            <a:ext cx="76212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DB</a:t>
            </a:r>
            <a:endParaRPr b="0" lang="en-US" sz="1100" spc="-1" strike="noStrike">
              <a:solidFill>
                <a:srgbClr val="000000"/>
              </a:solidFill>
              <a:latin typeface="Arial"/>
            </a:endParaRPr>
          </a:p>
        </p:txBody>
      </p:sp>
      <p:cxnSp>
        <p:nvCxnSpPr>
          <p:cNvPr id="420" name="Straight Arrow Connector 54"/>
          <p:cNvCxnSpPr/>
          <p:nvPr/>
        </p:nvCxnSpPr>
        <p:spPr>
          <a:xfrm>
            <a:off x="4267080" y="5257800"/>
            <a:ext cx="534240" cy="2160"/>
          </a:xfrm>
          <a:prstGeom prst="straightConnector1">
            <a:avLst/>
          </a:prstGeom>
          <a:ln w="9360">
            <a:solidFill>
              <a:srgbClr val="727ca3"/>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ferences</a:t>
            </a:r>
            <a:endParaRPr b="0" lang="en-US" sz="3200" spc="-1" strike="noStrike">
              <a:solidFill>
                <a:srgbClr val="464653"/>
              </a:solidFill>
              <a:latin typeface="Bookman Old Style"/>
            </a:endParaRPr>
          </a:p>
        </p:txBody>
      </p:sp>
      <p:sp>
        <p:nvSpPr>
          <p:cNvPr id="42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 http://esw.w3.org/topic/RdfStoreBenchmarki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2] http://www4.wiwiss.fu-berlin.de/benchmarks-200801/</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 Kurt Rohloff et al.: An Evaluation of Triple-Store Technologies for Large Data Stores. Comparing Sesame, Jena and AllegroGraph. 2007</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4]N Bhatia, A Seaborne – ‘Ingestion pipeline for RDF’</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tents</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83000"/>
          </a:bodyPr>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roduction</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Architectures</a:t>
            </a:r>
            <a:endParaRPr b="0" lang="en-US" sz="2600" spc="-1" strike="noStrike">
              <a:solidFill>
                <a:srgbClr val="000000"/>
              </a:solidFill>
              <a:latin typeface="Gill Sans MT"/>
            </a:endParaRPr>
          </a:p>
          <a:p>
            <a:pPr lvl="1" marL="454320" indent="-22644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Implications</a:t>
            </a:r>
            <a:endParaRPr b="0" lang="en-US" sz="2300" spc="-1" strike="noStrike">
              <a:solidFill>
                <a:srgbClr val="464653"/>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 Example : Jena SDB</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valuations</a:t>
            </a:r>
            <a:endParaRPr b="0" lang="en-US" sz="2600" spc="-1" strike="noStrike">
              <a:solidFill>
                <a:srgbClr val="000000"/>
              </a:solidFill>
              <a:latin typeface="Gill Sans MT"/>
            </a:endParaRPr>
          </a:p>
          <a:p>
            <a:pPr lvl="1" marL="454320" indent="-22644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Evaluations using LUBM/DBPedia</a:t>
            </a:r>
            <a:endParaRPr b="0" lang="en-US" sz="2300" spc="-1" strike="noStrike">
              <a:solidFill>
                <a:srgbClr val="464653"/>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pen Research Issues</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ich RDF Store to choose for a particular application?</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ssible system diagram for Phenotype Annonations.</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troduction</a:t>
            </a:r>
            <a:endParaRPr b="0" lang="en-US" sz="3200" spc="-1" strike="noStrike">
              <a:solidFill>
                <a:srgbClr val="464653"/>
              </a:solidFill>
              <a:latin typeface="Bookman Old Style"/>
            </a:endParaRPr>
          </a:p>
        </p:txBody>
      </p:sp>
      <p:sp>
        <p:nvSpPr>
          <p:cNvPr id="364" name=""/>
          <p:cNvSpPr txBox="1"/>
          <p:nvPr/>
        </p:nvSpPr>
        <p:spPr>
          <a:xfrm>
            <a:off x="457200" y="1219320"/>
            <a:ext cx="8229600" cy="50133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at is an RDF stor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 system to provide a mechanism for persistent storage and access of RDF graph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tential Applications area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lenty! Backend for Protege, BioPortal, Phenotype Annotation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ifferent Architectures</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ased on their implementation, can be divided into 3 broad categories </a:t>
            </a:r>
            <a:r>
              <a:rPr b="0" i="1" lang="en-US" sz="2600" spc="-1" strike="noStrike">
                <a:solidFill>
                  <a:srgbClr val="000000"/>
                </a:solidFill>
                <a:latin typeface="Times New Roman"/>
                <a:ea typeface="Times New Roman"/>
              </a:rPr>
              <a:t>: In-memory, Native, Non-native Non-memory.</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 Memory : RDF Graph is stored as triples in main –memory. Eg. Storing an RDF graph using Jena API/ Sesame API.</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ative : Persistent storage systems with their own implementation of databases. Eg. Sesame Native, Virtuoso, AllegroGraph, Oracle 11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n-Native Non-Memory : Persistent storage systems set-up to run on third party DBs. Eg. Jena SDB.</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mplications </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calability</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query languages supported to varying degrees.</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Sesame – SeRQL, Oracle 11g – Own query languag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level of inferencing.</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esame supports RDFS inference, AllegroGraph – RDFS++,</a:t>
            </a: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Oracle 11g – RDFS++, OWL Prim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ck of interoperability and portability.</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More pronounced in Native stores.</a:t>
            </a: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Jena SDB</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DB basically is a Java Load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ltiple stores supported: MySQL, PostgreSQL, Oracle, DB2.</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akes incoming triples and breaks them down into components ready for the databas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ltiple layout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egration with the Joseki serv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ARQL support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Footer Placeholder 3"/>
          <p:cNvSpPr/>
          <p:nvPr/>
        </p:nvSpPr>
        <p:spPr>
          <a:xfrm>
            <a:off x="1447920" y="6356520"/>
            <a:ext cx="662940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Non) Interest Declaration: I was previously an intern at HP Labs with the Jena te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valuations</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ird party evaluations for Sesame, Jena SDB, Virtuoso</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racle 11g company evaluation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ethodology</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LUBM – Lehigh University BenchMark</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DBPedia</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Multiple Queri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Load Times</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valuation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B Pedia – Database of structured information extracted from Wikipedia. Information about places, persons, music albums and films[2]</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UBM – Synthetically generated RDF data containing universities, departments, students etc.[1]</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ataset size:</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ataSet1: 15,472,624 triples; 2.1 GB</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ataSet 2: LUBM 50 – 2.75 Million &amp; LUBM 1000 – 55.09 Million</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Querie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oading Time-DataSet1</a:t>
            </a:r>
            <a:endParaRPr b="0" lang="en-US" sz="3200" spc="-1" strike="noStrike">
              <a:solidFill>
                <a:srgbClr val="464653"/>
              </a:solidFill>
              <a:latin typeface="Bookman Old Style"/>
            </a:endParaRPr>
          </a:p>
        </p:txBody>
      </p:sp>
      <p:pic>
        <p:nvPicPr>
          <p:cNvPr id="377" name="Content Placeholder 3" descr="load-infoboxes.gif"/>
          <p:cNvPicPr/>
          <p:nvPr/>
        </p:nvPicPr>
        <p:blipFill>
          <a:blip r:embed="rId1"/>
          <a:stretch/>
        </p:blipFill>
        <p:spPr>
          <a:xfrm>
            <a:off x="533520" y="1371600"/>
            <a:ext cx="802008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 </cp:lastModifiedBy>
  <dcterms:modified xsi:type="dcterms:W3CDTF">2008-03-27T21:09:21Z</dcterms:modified>
  <cp:revision>70</cp:revision>
  <dc:subject/>
  <dc:title>RDF Store – Evaluations and Issues</dc:title>
</cp:coreProperties>
</file>